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EB8-679A-4E25-BA06-9AC51961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2BB-8EBF-4584-9687-04A31EE4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B0D-64C1-4309-99F3-0D84028C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F71-2B6B-4093-BCBC-C32D8D8F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469D-C5BF-45AF-A7D9-B237609A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D158-F136-45F7-A9E9-17FB892D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FDCB-D55D-40AB-9AE3-AD0D05B1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F6FC-5352-40AD-8D4E-4F79FECD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42F8-A66E-4D38-9E01-6FA60C3E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0787-420C-43AE-97E4-FDBE8D09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DA73-BA49-4BBA-880E-2E6111B7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94D-7A5E-4479-B51A-1A1130C9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09F3-3BAA-4E75-A53A-65039B8E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8675-06FB-46C8-9577-42BF0F97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8D27-036A-448A-81DD-D73A5BC6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FAE9-9620-4DA7-AA06-7A28A5B2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9314-277D-4E92-837F-F3EC8B76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94E1A-0031-4BC4-8F8D-522BE401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FC389-138B-40BD-B4E6-102048AC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2888A-FD14-4820-8E53-D46D7D0B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F27AF-4E05-47BB-B906-67141676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98660-C516-439D-9010-30907343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067-AAAE-4A66-972C-994FB3ED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F3457-CF9D-4962-8EF7-EA026ECF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51763-4948-4B17-B709-DC21D49B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CF6A8-B681-402C-AC7F-FF490CC1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48CC8-6743-41E3-842F-2FD9B5D1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44BE1-4FB5-4C37-9FF7-B954E2AC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80E0-B219-4187-927E-90616290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52F35-0E0E-409E-9888-853038D0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DCEBF-70AA-4B7D-966A-1933D951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4F720-9CC7-449F-8C87-0EBD784B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9D429-75A9-419A-89B7-D30EBE80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07C-9EB0-4DCF-9FA4-B9A5F76D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8FB43-A160-4702-A8F4-A6E37A2C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D4969-F27F-4F30-BCED-702691E1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5752A-B836-483A-B746-EFA153F9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6A988-EDE3-4232-94AE-0F9D4BA9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E3DFB-3EAC-4161-AFC1-157AF37E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4DF32-0E94-48B2-BE95-8F191606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73F2C-C404-4B4D-845C-D12D66A8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F557A-B9E5-4D06-845D-69CC096B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D8750-21C1-44DF-AEAB-84B40964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0EE-3A84-426A-A1A0-8EE74B1B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B62-FCC1-49B2-8161-0578350D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F73-6DA9-4B34-910A-C1E1FE4E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D50-DE74-43A0-82CF-4CF42356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ACC-EA02-4763-951C-382670CD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A1FD-7655-4D67-8E4C-89FC2F060F3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073D-EEF4-4D16-9C87-68817F08FEB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9372-3C4C-450A-82AF-6DF81023D56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4024-6459-4D0E-83C5-2AF9748BAFE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506520"/>
            <a:ext cx="7785000" cy="1163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114800" y="198108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the WATER CYCLE there are four parts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rst PRECIPITATION into INFILTRATION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n it all EVAPORTATES becoming CONDENSATION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n the WATER CYCLE starts over again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water cycle for kids. In summary, the Water Cycle"/>
          <p:cNvPicPr/>
          <p:nvPr/>
        </p:nvPicPr>
        <p:blipFill>
          <a:blip r:embed="rId2"/>
          <a:stretch/>
        </p:blipFill>
        <p:spPr>
          <a:xfrm>
            <a:off x="457200" y="2286000"/>
            <a:ext cx="3333600" cy="4191120"/>
          </a:xfrm>
          <a:prstGeom prst="rect">
            <a:avLst/>
          </a:prstGeom>
          <a:ln w="0">
            <a:noFill/>
          </a:ln>
        </p:spPr>
      </p:pic>
      <p:pic>
        <p:nvPicPr>
          <p:cNvPr id="198" name="ItsyBitsySpider.mp3" descr=""/>
          <p:cNvPicPr/>
          <p:nvPr/>
        </p:nvPicPr>
        <p:blipFill>
          <a:blip r:embed="rId3"/>
          <a:stretch/>
        </p:blipFill>
        <p:spPr>
          <a:xfrm>
            <a:off x="43434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4800600" y="57150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Itsy Bitsy Spider  (with Lyrics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385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20:21:15Z</dcterms:created>
  <dc:creator> </dc:creator>
  <dc:description/>
  <dc:language>en-US</dc:language>
  <cp:lastModifiedBy> </cp:lastModifiedBy>
  <dcterms:modified xsi:type="dcterms:W3CDTF">2012-02-20T20:45:09Z</dcterms:modified>
  <cp:revision>4</cp:revision>
  <dc:subject/>
  <dc:title>The Water Cycle </dc:title>
</cp:coreProperties>
</file>